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B0D7-4873-4B17-ABE1-0C45585F9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7991-9683-4E93-ADE3-E5253EDCF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E3B4-C80B-4A33-83F7-431624BD9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3D2F-7CDE-4DD1-AC2A-C964CACF8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9CE2-8906-4803-B21A-DFF92F3CC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AEBB-D861-4106-8DC0-930874B80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25EC-56C1-4C7E-925C-29EE8C488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E961-2D4E-4953-BCA3-7B1291FB3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C2FD-353C-4BC0-BBE1-A8D376887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3343-2A5E-4798-8406-3C72642CF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C2D6-A4A3-4828-B507-0F9381B69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E0FA-E4BE-4FE9-8648-602C11485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4DF18-5EAF-4FA7-8C4C-FD3DB1DA74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8.xml"/><Relationship Id="rId3" Type="http://schemas.openxmlformats.org/officeDocument/2006/relationships/slide" Target="slide10.xml"/><Relationship Id="rId4" Type="http://schemas.openxmlformats.org/officeDocument/2006/relationships/slide" Target="slide12.xml"/><Relationship Id="rId5" Type="http://schemas.openxmlformats.org/officeDocument/2006/relationships/slide" Target="slide16.xml"/><Relationship Id="rId6" Type="http://schemas.openxmlformats.org/officeDocument/2006/relationships/slide" Target="slide18.xml"/><Relationship Id="rId7" Type="http://schemas.openxmlformats.org/officeDocument/2006/relationships/slide" Target="slide20.xml"/><Relationship Id="rId8" Type="http://schemas.openxmlformats.org/officeDocument/2006/relationships/slide" Target="slide26.xml"/><Relationship Id="rId9" Type="http://schemas.openxmlformats.org/officeDocument/2006/relationships/slide" Target="slide28.xml"/><Relationship Id="rId10" Type="http://schemas.openxmlformats.org/officeDocument/2006/relationships/slide" Target="slide30.xml"/><Relationship Id="rId11" Type="http://schemas.openxmlformats.org/officeDocument/2006/relationships/slide" Target="slide32.xml"/><Relationship Id="rId12" Type="http://schemas.openxmlformats.org/officeDocument/2006/relationships/slide" Target="slide34.xml"/><Relationship Id="rId13" Type="http://schemas.openxmlformats.org/officeDocument/2006/relationships/slide" Target="slide36.xml"/><Relationship Id="rId14" Type="http://schemas.openxmlformats.org/officeDocument/2006/relationships/slide" Target="slide38.xml"/><Relationship Id="rId15" Type="http://schemas.openxmlformats.org/officeDocument/2006/relationships/slide" Target="slide40.xml"/><Relationship Id="rId16" Type="http://schemas.openxmlformats.org/officeDocument/2006/relationships/slide" Target="slide44.xml"/><Relationship Id="rId17" Type="http://schemas.openxmlformats.org/officeDocument/2006/relationships/slide" Target="slide48.xml"/><Relationship Id="rId18" Type="http://schemas.openxmlformats.org/officeDocument/2006/relationships/slide" Target="slide2.xml"/><Relationship Id="rId1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2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3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4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5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6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7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8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9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10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1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2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3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14" action="ppaction://hlinksldjump"/>
          </p:cNvPr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15" action="ppaction://hlinksldjump"/>
          </p:cNvPr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16" action="ppaction://hlinksldjump"/>
          </p:cNvPr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17" action="ppaction://hlinksldjump"/>
          </p:cNvPr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18" action="ppaction://hlinksldjump"/>
          </p:cNvPr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Water 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ar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res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at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y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lou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ateg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hydrosphe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ll the water on earth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1085760" cy="762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ain, melted snow, or water that soaks into the groun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ground wat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190520" cy="819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layer of rock and soil that groundwater moves through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quif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33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top level of groundwater in an aquifer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water tabl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076400" cy="743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mount of fresh water in glaciers and ic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7% or 7/10th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23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oceans cover about what percent of Ear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next step after water is pumped to a treatment pla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add chemicals that adhere to pollutants causing them to float down to the bottom of holding tank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599840" y="47242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1085760" cy="762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water vapo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water in the form of a gas in the ai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190520" cy="819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the changing of liquid water  into water vapor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4038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evapor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1076040" cy="733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ter vapor turning into liquid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condens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42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ater that falls from clouds as snow, rain, sleet or hail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precipit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23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75%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190520" cy="819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the final step of the water cycle calle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runoff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1085760" cy="761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keeps the water cycle going, were does it get it’s energ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from the su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1190520" cy="819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rozen raindrops falling from clouds are called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sle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1076040" cy="733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ven on summer days, clouds are made of thes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ice crystal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42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en air moves upward to areas of less air pressure, what form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cloud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23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carries warm water to the pol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formed when strong winds blow raindrops through clouds many tim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hai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1085760" cy="762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ich process is slower; evaporation or sublimatio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sublim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190520" cy="819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ame two ways water is treated in most treatment plant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adding chemicals to make pollutants fall; and processing water through filter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33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are two chemicals added before water gets to your house; what do they do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chlorine to kill bacteria; and fluoride to help your teeth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1076400" cy="742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ow are sublimation and evaporation both alik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they both form water vapor; evaporation turns liquid water into water vapor and sublimation turns ice directly into water vapo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905120" y="502884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23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current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33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water vapor freezing on a surface before it becomes a liquid wate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fros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1085760" cy="762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ich is heavier: cold water with high salinity or warm water with low salinit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cold water with high salinit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42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fresh surface wat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are rivers, streams, and lak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1076040" cy="723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Grant County High School</dc:creator>
  <dc:description/>
  <dc:language>en-US</dc:language>
  <cp:lastModifiedBy>udsd</cp:lastModifiedBy>
  <dcterms:modified xsi:type="dcterms:W3CDTF">2012-02-29T18:00:05Z</dcterms:modified>
  <cp:revision>55</cp:revision>
  <dc:subject/>
  <dc:title>No Slide Title</dc:title>
</cp:coreProperties>
</file>